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F19-BFF6-4EAA-9FDF-73FD44A2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6D9-7108-4571-8574-CCF273C1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8D59C-E8B0-4110-9CDD-EAADE9E9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FB20A-8E7C-4BE0-BA1C-D49CCD8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FF42A-E249-4667-AC42-98F41257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295AE-6B31-4252-9741-75C28DEC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01A4F-04BC-4729-B2C7-FEF28A7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39827-F5EF-48A1-82D3-91D2CEC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68324-555A-4514-8505-8A7CC2A3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44D1C-EFD1-4AE5-9050-49FCAB1C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F8CB9-256C-43B2-A6F6-B2E0E987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F88EB-0646-4AD5-A9DF-33FEC0E0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B27-2DE0-40BD-B6AA-8081F7CF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73361-5DF1-4CD7-A310-A2623111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0C807-BCC4-4911-81B8-FE070250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482DA-00AC-450D-8C78-0F745629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50934-125C-4509-BBB4-EE47E74C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1928D-5AA4-4746-8836-3CE5E21F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05062-BAE8-4D0D-845A-0F1E980D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4F5F3-D1AA-40C9-B151-E5151A8A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7A6D6-2205-4D28-83E6-CAC2D662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60439-2647-4773-BBB8-13E60729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44470-A7FA-4CC9-9277-3386E9C4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F86-DACF-46B2-A5DD-41339103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0FD15-29E6-4B31-9EEB-C1A2DA88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E2635-C7AB-4656-AD76-6013872D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CF1FE-86C8-4C26-B2FA-A39CFA67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17545-6E61-4553-95AF-3D038745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63889-9E00-4F4C-B547-F4CF8767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44512-5947-4630-80ED-63177FF5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CDAB2-2A95-4BB6-BE8C-B8CFFA7E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F1AF2-23B3-4040-A7DE-0FACD80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5EC70-8A57-4DAA-AF4F-3CB81A2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0951B-4FBE-4E21-BB23-306E41E9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C962-4323-4F9C-A76D-90F8DD10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3426A-4D61-440B-88F5-D44DC297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8A924-B93B-4345-8CA0-3C51FA96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AAF99-73E8-41E0-8B7B-744D2BB7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F0D9A-49C5-4487-BD6F-9BAEC7BC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B8725-83F4-4AF4-9661-DAF3CA57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D3E44-B0CB-407B-A9AD-643F3763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FBAB4-96A6-4D38-AC2D-8C649686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D273E-28D0-489C-9E35-86980B60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7A042-B2D4-4945-8121-8678F1AB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43639-7E98-45AF-9C0F-2D4018DF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97DA-616A-4385-BF53-1DFAE45E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BF8C6-3862-420D-A751-4DC129D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AA7CB-30BD-4091-95C6-E448EB2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BFD8D-0818-4710-B606-CB26AF1A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6610E-BDB8-4670-BF8D-6975EBB7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3C17C-CE4D-4AB5-A41F-E7B0835D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3DFDC-B990-46FE-BB95-EAEF6643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7D12E-1329-4ABD-92F2-1FA91BA4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E18DB-BA92-4A8E-A2D2-5F0DEC40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E0691-8B56-47CA-82B0-A1C9F681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8E447-C98B-45EE-A90F-033907DB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02C6-2D86-45C6-92B6-D76054E3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B3CF7-71D1-418F-A705-B60C9A21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1669D-D9FE-4EC6-9653-04259686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EF665-2377-404B-905E-ED65F34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620F7-4392-4DC5-AA08-43CF4B5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BB51F-C300-4122-9C18-571AC4B9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4F799-1416-460E-895D-42411F50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BD171-5571-4EEC-A882-D9E1CDF2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281E5-C1E5-4F82-B294-745A3C90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DDA04-B82B-4CFA-AC91-531C9C9F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45074-C151-48DC-B08F-B557D9CB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F4F7-CC2E-4810-A6A7-EA7CE54D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40F0E-F781-4982-8FCD-4FFC0ABB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92C2D-FF0D-417B-A8D7-7E5B29D7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6DCFE-F660-4D53-9C98-0608ACD9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83B29-89CA-4E82-AC8E-569E6531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FFA1A-37E8-44D0-BC53-4BC1C9F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8C73B-A61A-479C-BC99-C74B7FD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D70E4-8426-44BA-8778-A9638D4B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534B7-E9E3-4F28-8D9E-B42234E7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396AA-9340-4EDE-B720-DF8C4EA5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6A00A-25A5-4805-90DA-C95E158D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5716-60D8-411E-A60C-70BC04FE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E68A9-9E73-4308-A881-F6D8EECC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2B3CA-134D-45F7-BD67-D96FAF20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B9C1E-68FB-4FB4-9A4F-2A94E470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E9DD9-A352-44DC-B7DE-62BB5E30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5FC94-3BFE-4953-8A63-3E564546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4ACAD-E073-4078-8065-85C59FB9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9D5C8-D03E-46EF-9619-044A270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38A8C-95EF-461C-B241-D2889CBF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BF03C-75B1-4E43-9AAC-1B560599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9E28C-D2A6-42AD-98BB-4C994457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AB9D-9ED8-4431-B1AF-ACBC1EAB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D41C7-0C19-4387-8720-873DD154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2FA9D-759C-44C1-9D3D-F247AD19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C4231-1761-46B0-8599-ABB9D278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12C0A-DD54-4A20-94E8-86DB4F88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ADCEB-5E36-49EA-A7D4-B79A4C75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471F6-0C67-4E99-89E4-3571F29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C4B5A-9F7D-4E03-9EB7-B03E14B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C6CD3-FD6A-4180-9E70-AA99D5D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4EA64-E09B-42E0-88ED-355ED5B5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ACCE9-EB62-4BEA-A834-5D65062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8C36-6251-4AD6-B803-565FE3D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B645D-C548-48EC-9D1C-902234C7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DC309-E6B8-4E33-B3DC-1DD18BE0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929EA-244F-4BBA-A9E9-DB1B8AC1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E388C-6FD0-4546-9663-B1CF157B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28F26-04E6-4157-AA6B-C602EF06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4A841-5D3E-4AE8-A66D-2B176F16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37CC0-EB23-44DA-BB26-2B8E8BBD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AD65B-AAEB-4F86-BAAD-7E513A60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9C74C-146C-4159-8031-9BD01A2D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41E15-35B3-4C17-8937-B7E066F9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3E5-106A-4F8C-A4D3-09BBAB33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856C-3FE6-406E-8079-3591F250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5B60A-4768-4A11-8AAE-22B87215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B98B9-BBA0-46EB-A9F1-4E270F91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F464EF-9A39-44D5-B7DE-34C50294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3F47A-E5B2-4F22-A265-FD00E530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F261D-04CD-47C0-8AE6-A86BB80D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6406-D3E3-438B-B926-B423CF25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2D2C-A898-4197-8169-E1CA293B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299F-B0B6-4481-9367-48BB0216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2406-F77F-4460-AFBB-B992401E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2FA3-F168-4D98-B42B-3C20A5FD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EA1A-8D75-4996-890A-8467AEF2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73A9-85C4-44AC-9EAC-CF46AF59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8C7B-E262-4C1B-A5D4-C52C2EB9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DC1C-36F2-4970-B8A6-33828883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1E8-ABEB-4159-9997-AC33A5D2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2C5D-A105-4CBE-9B6E-C76FEB97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CF81-ABE6-4114-BB8A-CD75FF5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7433-63A8-49AC-B6F0-AB31AB01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DE77-961C-4955-BFD4-EEA27A6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FB13-2700-4B71-B5AD-300F8734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284D-9A47-4E04-A175-EACA2AAB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C5E0-A154-4E57-9F2D-9937DE55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4579F-B115-4A38-B8CA-CDCC382E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44C6-BF69-4576-AB87-82B5DC31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9921-26BB-4BEF-9BA6-BCCBDC77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A29-4069-4371-B272-83598923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318A-8486-4B8B-BA4F-EC98517F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4532-DD4F-4B07-A6C3-311FAB33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0FD8-90ED-4447-879F-3B008EC3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D955-24FF-4C57-95F7-0FA2D963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D876-C415-4E05-AA1B-3C09910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920D5-82C8-4BAC-BCCF-BEB7DCB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A331-1C1A-4110-BCBE-D659CDF8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E9EB-078E-4C2D-ABF5-1CC2D001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B1AC-5DB7-490B-A62F-C30C0090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584DA-202D-4A0D-8484-401A31D0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6DC-1E19-40F4-8474-9DE3F2B7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05B0F-B702-4FDB-8A1F-C20697F4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E538-16AF-424E-BBAE-AD848559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24CD1-9061-4ADB-96FD-180E94AA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B33A9-3B38-4C94-BCC1-117B9639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1F4F6-101C-4F86-BE86-AD01397E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9FF80-9D7A-4005-A88B-544AE9D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53500-8C8E-4108-BFCA-4219BCC2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65FA-3D68-41D3-B41D-BB3B1F0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0E75F-4390-40E3-A279-731EB05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5F6F7-0691-4609-8C79-778C4561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AA6-124C-45D5-B8DE-2A236671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E4A0-9D89-4DD2-8C69-765EC453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4B5C0-6E98-4B48-8932-70DD3565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B6A9C-9A84-4F5E-8D78-8452AF4C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41C16-3545-4858-BF37-E143CE91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12050-0E0E-4794-9346-8A8D15B0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A4F71-A4C3-4C0D-B85F-8298E755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1B31D-52DF-496C-AA5E-C79315E6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EC69C-98D6-4013-B613-745A4D30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1FB3B-6DAF-40AF-8931-A1279BAA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AB816-563B-4646-A164-30AE0076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E1D-24E2-426C-AD3D-E100B0D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E24BD-8C25-4A83-BBFD-B76A3A6D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3715-E689-4614-A03E-FD9550A3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22CE6-C6BC-4418-9C57-95681670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714E8-775E-4015-AFEF-A2E4F674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CFFC-AB84-49EB-AF42-13F2A140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208C-FDF4-4431-BFF1-6621C9CE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22D67-57C7-41A7-96A5-3A33AFC1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3640F-F130-4111-8058-710A5BAB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1EC0-6848-4839-BB42-98729CC5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0B6B5-4403-4946-9F0F-85ACDF59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5A5-43B8-49EC-A910-4BCEE64B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33817-E8BE-4E2C-B4C6-2B65F40E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C84E6-26C3-4E08-8FCC-31A7EFE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5ED50-7E4A-4717-9B0A-9B5D733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21028-A6FE-4EE9-B19F-344C340A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E5EE4-899C-4844-8A1A-4FD2BFF4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C2FA-45AC-4770-92B6-C0315B46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832B0-7B48-40B3-B126-1681C58C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58785-7296-4DC5-A3DD-9E85C5C9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367D-1038-4753-A113-DB49140F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4C98-9396-493A-8ECE-FF6D4E5F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26A-1AEA-47D9-89CD-DD2382E3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05AF9-3791-46CC-8EA2-D6400F12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26C4F-F8C0-4B7F-B3C9-0BB11CCA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3B525-849A-4F6C-8609-D364205A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2E5B1-ED1A-49B1-B256-0906854B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06DC7-45A6-4A94-83E1-4FD878DD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2F44B-80E4-4B4E-BCDF-DC75E63C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7C9C8-9E10-4E8C-9416-8797D0DA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ECDEF-C720-48DB-8DB6-08E5CB57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9C18A-232C-475C-82D2-2EDB8CA8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A8405-3D5B-43A7-9C64-C8AAF27C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AB093-0F81-4C68-B589-625A3D2141E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787DD-9EAC-4458-A64F-2FB039A1D9A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599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960" y="452520"/>
              <a:ext cx="2742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360" y="45252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C1243-229D-46AF-8B2E-F8D6C6BDDE3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C948C-B9B1-4528-B2EC-6BDB8779AF5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599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960" y="452520"/>
              <a:ext cx="2742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360" y="45252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CF067-AE39-429E-9E2F-42F90783D23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E0D55-3A2E-46BF-8E68-2DC43A844D0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9271F-A1BF-4C65-B411-386941C70DE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0AB69-67A3-4CC6-BC32-DC278E576B9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2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6160" y="4280040"/>
              <a:ext cx="1599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360" y="428004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3CA19-B6E2-4B28-B2EE-04C8013F23F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51C1F-A1A8-4116-BB22-A228720EBA3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28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6160" y="461880"/>
              <a:ext cx="159984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360" y="461880"/>
              <a:ext cx="423360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D3C96-F115-455F-8F70-4C842E3ACBB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C9C67-F4DC-4786-80C6-00608784D31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B28C0-DD69-420B-A6F9-36DC8C2DD93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5491A-F679-4F0D-BF6A-77CCEA52452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1019D-21D7-4FB5-8379-D1D45558953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78272-6B57-43D1-BD27-387D4CA71B3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1840" y="941400"/>
              <a:ext cx="11070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560" y="2444760"/>
              <a:ext cx="189792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0680" y="4857480"/>
              <a:ext cx="292932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6D944-EB6F-4D57-8E91-9436D30263F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79E40-7F1C-487D-8E24-6CB55E02745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6160" y="1906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360" y="1906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FE88D-BF9B-4EDA-AFA4-99EB664D082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DDEBC-C118-4656-9478-D5B3560A39B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F1939-F632-45B3-BF55-0E741764027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71906-B625-4366-84E1-52DF12AE341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6160" y="1906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360" y="1906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39033-D20E-4CB9-80C0-436A87A86D2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EF734-4DA0-4FAF-A20C-BC5B45BDFC9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C51DC-4A23-4ED1-9086-04A3DB65832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095D3-E288-49AF-B6C8-593A27F3996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58F23-C222-48F5-96F6-66C90DFAB45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E031D-F145-4849-AB96-9CEC58F7AD9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1D6BD-7274-47E6-A703-3D27902B717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F1ED1-9B39-48FD-8FC8-1EFA58C27D8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B553F-7CC4-423E-9F9B-EB36E5D7CC6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7B8F2-A1AD-417B-B07F-F00BE918D68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DFA70-AC2F-4552-B6FD-2E0963D9EED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3855F-8C11-4CF4-91B6-F0F43DF6295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091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MY FAVORITE 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VEHICLE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609120" y="3571560"/>
            <a:ext cx="7753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Calibri"/>
              </a:rPr>
              <a:t>Presented by: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Calibri"/>
              </a:rPr>
              <a:t>Kelli A. Bates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1" name="TextBox 5"/>
          <p:cNvSpPr/>
          <p:nvPr/>
        </p:nvSpPr>
        <p:spPr>
          <a:xfrm rot="20859000">
            <a:off x="434520" y="27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m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6"/>
          <p:cNvSpPr/>
          <p:nvPr/>
        </p:nvSpPr>
        <p:spPr>
          <a:xfrm rot="708000">
            <a:off x="5790960" y="2760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7"/>
          <p:cNvSpPr/>
          <p:nvPr/>
        </p:nvSpPr>
        <p:spPr>
          <a:xfrm rot="20631600">
            <a:off x="423360" y="4970520"/>
            <a:ext cx="24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8"/>
          <p:cNvSpPr/>
          <p:nvPr/>
        </p:nvSpPr>
        <p:spPr>
          <a:xfrm rot="686400">
            <a:off x="6492960" y="484452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x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9"/>
          <p:cNvSpPr/>
          <p:nvPr/>
        </p:nvSpPr>
        <p:spPr>
          <a:xfrm>
            <a:off x="3340080" y="5419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0"/>
          <p:cNvSpPr/>
          <p:nvPr/>
        </p:nvSpPr>
        <p:spPr>
          <a:xfrm>
            <a:off x="3124080" y="253044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M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Toyota Camry XL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89" name="Picture 7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990720" y="2133720"/>
            <a:ext cx="7076880" cy="398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8220240" y="62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93714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Honda Accord EX V-6</a:t>
            </a:r>
            <a:br>
              <a:rPr sz="3800"/>
            </a:b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Volvo S8O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619760" cy="40640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Lexus L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609480" y="1995480"/>
            <a:ext cx="7810560" cy="4557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Maxima 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46008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BMW 535 i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619200" y="2362320"/>
            <a:ext cx="7764480" cy="3962160"/>
          </a:xfrm>
          <a:prstGeom prst="rect">
            <a:avLst/>
          </a:prstGeom>
          <a:ln w="0">
            <a:noFill/>
          </a:ln>
        </p:spPr>
      </p:pic>
      <p:pic>
        <p:nvPicPr>
          <p:cNvPr id="801" name="showroom_7_QT_480x360" descr=""/>
          <p:cNvPicPr/>
          <p:nvPr/>
        </p:nvPicPr>
        <p:blipFill>
          <a:blip r:embed="rId2"/>
          <a:stretch/>
        </p:blipFill>
        <p:spPr>
          <a:xfrm>
            <a:off x="619200" y="1905120"/>
            <a:ext cx="7764480" cy="4572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The End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tretch/>
        </p:blipFill>
        <p:spPr>
          <a:xfrm>
            <a:off x="495360" y="2057400"/>
            <a:ext cx="7962840" cy="45464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4:17:44Z</dcterms:created>
  <dc:creator>College of Education</dc:creator>
  <dc:description/>
  <dc:language>en-US</dc:language>
  <cp:lastModifiedBy>teacher</cp:lastModifiedBy>
  <dcterms:modified xsi:type="dcterms:W3CDTF">2009-07-29T14:40:25Z</dcterms:modified>
  <cp:revision>5</cp:revision>
  <dc:subject/>
  <dc:title>MY FAVORITE VEHICLES</dc:title>
</cp:coreProperties>
</file>